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F9F-0671-478B-A7CC-0FC15073E8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F0C-3D12-4C27-901E-952DCC1C22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A8E-59BB-471A-BE26-995ADC22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1FD-9BA4-43CE-8AF8-827FC28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047-66D1-42C4-9227-36E13D90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78C-0F22-4337-AA1D-5A0707B1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7DC-CE57-4CD7-AE67-996DC58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78F-F75F-403B-9228-A69F0CA9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903-F465-421F-8760-766ABFD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BEE-AAC0-4C92-ACE5-EBE1C420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8C7-B9FA-45E4-861B-96E159B1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26F-F917-4270-BBAC-FBFEFAB6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2FB-FE1E-4D4E-AF21-3C06B74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267-ED5B-42E2-9A50-8259E1E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693-C5E1-4AF9-9E05-F7AE6B39CE8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ÁB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3644640"/>
            <a:ext cx="71611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898989"/>
                </a:solidFill>
                <a:latin typeface="Calibri"/>
              </a:rPr>
              <a:t>RATO DO CAMPO E RATO DA C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spaço Reservado para Conteúdo 3" descr="O rato do campo e o rato da cidade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ço Reservado para Conteúdo 3" descr="O rato do campo e o rato da cidade.JPG"/>
          <p:cNvPicPr/>
          <p:nvPr/>
        </p:nvPicPr>
        <p:blipFill>
          <a:blip r:embed="rId1"/>
          <a:stretch/>
        </p:blipFill>
        <p:spPr>
          <a:xfrm>
            <a:off x="395280" y="115920"/>
            <a:ext cx="84978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ço Reservado para Conteúdo 3" descr="O rato do campo e o rato da cidade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paço Reservado para Conteúdo 3" descr="O rato do campo e o rato da cidade 3.JP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ço Reservado para Conteúdo 3" descr="O rato do campo e o rato da cidade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spaço Reservado para Conteúdo 3" descr="O rato do campo e o rato da cidade 5.JPG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79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ço Reservado para Conteúdo 3" descr="O rato do campo e o rato da cidade 6.JPG"/>
          <p:cNvPicPr/>
          <p:nvPr/>
        </p:nvPicPr>
        <p:blipFill>
          <a:blip r:embed="rId1"/>
          <a:stretch/>
        </p:blipFill>
        <p:spPr>
          <a:xfrm>
            <a:off x="0" y="-184320"/>
            <a:ext cx="914400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spaço Reservado para Conteúdo 3" descr="O rato do campo e o rato da cidade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ço Reservado para Conteúdo 3" descr="O rato do campo e o rato da cidade 8.JPG"/>
          <p:cNvPicPr/>
          <p:nvPr/>
        </p:nvPicPr>
        <p:blipFill>
          <a:blip r:embed="rId1"/>
          <a:stretch/>
        </p:blipFill>
        <p:spPr>
          <a:xfrm>
            <a:off x="-181080" y="-176040"/>
            <a:ext cx="932508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3:40:02Z</dcterms:created>
  <dc:creator>ASPIRE 4732Z</dc:creator>
  <dc:description/>
  <dc:language>en-US</dc:language>
  <cp:lastModifiedBy>ASPIRE 4732Z</cp:lastModifiedBy>
  <dcterms:modified xsi:type="dcterms:W3CDTF">2013-09-20T00:16:59Z</dcterms:modified>
  <cp:revision>3</cp:revision>
  <dc:subject/>
  <dc:title>FÁBULA</dc:title>
</cp:coreProperties>
</file>